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A63-7E28-40B6-85BE-826DABC8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5C7-F91A-42E4-86EC-262D1247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812-F488-4AC0-B161-53CCA227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18C-E305-4DE1-94E5-9ACFE45B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64D5-C3BB-4045-A081-489302D1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B5F-8ADB-4164-8478-DAD7A43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FC3-4E5B-468D-804A-71D09B37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1133-ECC4-4A1F-BFF1-950DDF5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460-F2BB-411E-BF9C-054CFB9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698E-0BB5-4E65-ADCE-FBF9624C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A31-9701-4B09-922D-D1A4CDA7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FB0-F004-412C-A0A9-D0CB866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8709-1118-499F-908C-8134F1E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09FC-7731-4F50-9209-AA6710F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7E5-246F-48B7-9F66-2B22549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F27-7257-49BB-A00B-DA5026E0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6853-E57E-4C71-AC27-1E6F6151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14A-D513-4492-B07D-FBD3B4F9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D6A-A1EB-4CAB-B05F-8DB873AE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1BE-D37F-4DE5-A49E-09368E2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2A0-25E3-448C-86F4-DACE3659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E92-04F7-4832-BEC0-5B04E68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26D-246E-4B4C-8D51-9070689F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C65-7AE9-4EF9-93CE-17D8B93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8447-545C-4503-B622-281E49D3A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88D-26E5-4EC6-986A-51238CC69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Ballad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Sir Patrick Spens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Bonnie George Campbell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Bonny Barbara Allan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Get Up and Bar the Door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Definitions and Important Info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all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lively storytelling form of poetry, and the story typically is told in a particular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la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rt quickly, without much introduction or nar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rrative moves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e poet tells the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side ballads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tradition of sensationalist journalism written in ballad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basic ballad stanza structure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ng 4-beat and 3-beat lines, with the second line rhyming with the fou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repeated word, group of words, or group of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mental repetition (also variation)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hrase or sentence repeated with a new element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rony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rast between expectation and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rain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r line st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lad stanza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ight syllables in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nes; six syllables in the shorter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er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ic rhythmic structure of a 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mbic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ess in each line falls on every other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its most familiar version, the ballad stanza is four lines of alternating four-beat (tetrameter) and three-beat (trimeter) verse, with the second line rhyming with the four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SIT right BACK and you’ll HEAR a TA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ALE of a FATEful TR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TARted FROM this TROpic 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-BOARD this TIny 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dined on mince, and slices of quin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they ate with a runcible spo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hand in hand, on the edge of the sa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danced by the light of the moo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~”The Owl and the Pussy-Cat” by Edward Le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“Jabberwocky,” Lewis Carroll writes stanzas of 4-beat lines with alternating rhymes, so that line 1 rhymes with line 3, and line 2 with line 4,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as brillig, and the slithy t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gyre and gimble in the wa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imsy were the borogov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mome raths outgra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ware the Jabberwock, my 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aws that bite, the claws that catc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ware the Jubjub bird, and sh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rumious Bandersnatch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in Arlington Robinson uses the same ballad stanza as Keats in “Miniver Cheevy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ver loved the days of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swords were bright and steeds were prancing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ision of a warrior b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uld SET him D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ver sighed for what was no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reamed, and rested from his labo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reamed of Thebes and Camelo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RIam’s NEIGHb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ar Allan Poe adds an extra pair of lines to the ballad stanzas of “Annabel Lee,” mostly continuing the rhythmic alternation of 4- and 3-beat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was many and many a year a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kingdom by the s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 maiden there lived whom you may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name of Annabel Le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is maiden she lived with no other 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 to love and be loved by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02:45Z</dcterms:created>
  <dc:creator>lcipriano</dc:creator>
  <dc:description/>
  <dc:language>en-US</dc:language>
  <cp:lastModifiedBy>lcipriano</cp:lastModifiedBy>
  <dcterms:modified xsi:type="dcterms:W3CDTF">2009-11-09T14:59:23Z</dcterms:modified>
  <cp:revision>3</cp:revision>
  <dc:subject/>
  <dc:title>Scottish Ballads</dc:title>
</cp:coreProperties>
</file>